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9903"/>
        <c:axId val="90987818"/>
      </c:barChart>
      <c:catAx>
        <c:axId val="985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87818"/>
        <c:crosses val="autoZero"/>
        <c:auto val="1"/>
        <c:lblAlgn val="ctr"/>
        <c:lblOffset val="100"/>
        <c:noMultiLvlLbl val="0"/>
      </c:catAx>
      <c:valAx>
        <c:axId val="90987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2C7-4A72-452F-A64B-BCC7DF28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798-A36D-4574-970E-3CB2579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3FB-107C-4938-9FDA-ECA2B320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221-E953-42AE-8F16-8F160876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3FF-7837-4BF5-BD8A-0B8DFC6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A83-CF76-4E6F-9C7C-BAA93B0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B65-2253-4399-865A-D15B9FA2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7D7-1237-4BAA-AF30-73D99375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BF4-6294-4660-B686-0899A41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192-2154-42B6-9B6A-E4D8E5B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4F-1C82-4184-A8EA-A9F0501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55B-59B5-4C0C-AEB0-0E77C77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24087-43F4-4E62-B2BA-6D11E5F11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