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64322"/>
        <c:axId val="38226438"/>
      </c:barChart>
      <c:catAx>
        <c:axId val="75564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26438"/>
        <c:crosses val="autoZero"/>
        <c:auto val="1"/>
        <c:lblAlgn val="ctr"/>
        <c:lblOffset val="100"/>
        <c:noMultiLvlLbl val="0"/>
      </c:catAx>
      <c:valAx>
        <c:axId val="38226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64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B99-3DC3-4081-8A9C-AC611065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991-2A81-4ABF-8757-92653442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F83-D862-402A-B855-13669EED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055-3EA1-461D-A2FB-3AF9E8BA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92D-40CA-4121-BB77-71B8D367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5F6-BB7C-430F-B03B-72A8914C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C1F7-2FB1-4E23-892E-265DC0A3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87EC-2596-48BE-9895-18F4E526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3AF-6661-4F4A-BF79-2D2535F1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38E-6505-4533-8513-6515A6B8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6D2-97C2-4C31-8233-406DBD99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532-B382-46E4-AB73-54EF4495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CF6BE-4084-4771-874B-18C3B2BFC3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