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92281"/>
        <c:axId val="39898145"/>
      </c:barChart>
      <c:catAx>
        <c:axId val="48892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98145"/>
        <c:crosses val="autoZero"/>
        <c:auto val="1"/>
        <c:lblAlgn val="ctr"/>
        <c:lblOffset val="100"/>
        <c:noMultiLvlLbl val="0"/>
      </c:catAx>
      <c:valAx>
        <c:axId val="39898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92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3FF-481A-41CC-AF9B-9A99081A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F6D-68B9-4660-B5EF-886A2ED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87D-F185-4BA4-8B38-DB17EC6D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53E-DECD-415D-B263-972D9AD1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9CE-1286-47F1-9791-46A7232C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B54-B356-45E1-A80C-F3650F03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AB7-B3A1-4585-8086-4502A232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5DD-3EA4-40AC-A269-A51388C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D8B-007A-4A78-99A7-800369F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E15-E106-4C71-8039-72424B02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518-2321-464B-A078-2C6D5B8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5F2-8402-4075-9005-E791DBF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0AAAD-07B2-4CE8-AC57-23CABC1230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