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393603"/>
        <c:axId val="89732369"/>
      </c:barChart>
      <c:catAx>
        <c:axId val="113936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32369"/>
        <c:crosses val="autoZero"/>
        <c:auto val="1"/>
        <c:lblAlgn val="ctr"/>
        <c:lblOffset val="100"/>
        <c:noMultiLvlLbl val="0"/>
      </c:catAx>
      <c:valAx>
        <c:axId val="89732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3936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E2A-7E1B-41F0-8420-84D47DDC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0F1-4754-4339-9E2A-89DAA3EC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00B-008C-4AEB-896A-D8B167A23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13E-C594-424F-86D6-9A6FD283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635-1162-44F8-8829-FC6E7525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40D3-6867-4B34-A8CD-D737B2FB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610A-988C-44C8-908D-AEE6279D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6F4A-3EAE-4CE7-BE76-3875E257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A0C-E188-41E6-A1C7-D7C34F6D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804-EDE6-42BF-8A5F-B68CB29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BB4-FCC8-4BED-99A2-8D6F975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1004-9AB3-45EE-B27E-68627DD1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6594E-1D02-4664-8C15-1754C12C6A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