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28696"/>
        <c:axId val="55356463"/>
      </c:barChart>
      <c:catAx>
        <c:axId val="88328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56463"/>
        <c:crosses val="autoZero"/>
        <c:auto val="1"/>
        <c:lblAlgn val="ctr"/>
        <c:lblOffset val="100"/>
        <c:noMultiLvlLbl val="0"/>
      </c:catAx>
      <c:valAx>
        <c:axId val="55356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28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BC7-51E4-41F6-822B-986B2E97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604-3B2D-4642-9D1B-8DD4644B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6F8-3D8B-46AB-8DC9-F6541048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E8A-B9F9-4967-A097-4B4D0246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199-3846-45FF-9163-F370ECBC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21C-0C1D-4B5A-957F-D29E57B3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465-FD9C-411E-BF91-3B43C122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D76-7B72-40F4-8D1A-FBB1C902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B36-124D-4370-B49D-BE51868A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056-EEFA-4A12-9DA9-5EBC01A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158-37D5-47A6-92C4-7A51C912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552-7771-49A1-B27D-DEC5D386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FA309-2B3C-4AE7-A642-B92114F1AB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