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14038"/>
        <c:axId val="33999237"/>
      </c:barChart>
      <c:catAx>
        <c:axId val="60814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99237"/>
        <c:crosses val="autoZero"/>
        <c:auto val="1"/>
        <c:lblAlgn val="ctr"/>
        <c:lblOffset val="100"/>
        <c:noMultiLvlLbl val="0"/>
      </c:catAx>
      <c:valAx>
        <c:axId val="33999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14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8C7-A70B-44E8-B005-85FB0F1C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991-281D-4F98-B848-B51E9D7E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91C-E2CB-4344-B3DD-A0EC8315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BC5-85F6-4C0D-908F-B2DA3BC0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120-DB8A-460E-BD61-AE08C817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271-C89C-4A5C-B860-0B24E3DB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A6B-C0D3-448B-8706-49E2AF61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08B-E2B8-450D-92CC-94E6A386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564-8557-4F8D-B286-FB5EA0E0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E8A-4BD6-4BDC-8073-0F128A28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2F1-F003-4B70-9E67-599646B7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6DD-5B67-4EE2-B627-008ABC24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A14E8-EA32-4108-812A-01550D4EA5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