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02768"/>
        <c:axId val="31722390"/>
      </c:barChart>
      <c:catAx>
        <c:axId val="59802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22390"/>
        <c:crosses val="autoZero"/>
        <c:auto val="1"/>
        <c:lblAlgn val="ctr"/>
        <c:lblOffset val="100"/>
        <c:noMultiLvlLbl val="0"/>
      </c:catAx>
      <c:valAx>
        <c:axId val="31722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02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7FA-892C-4D98-AA45-F8E22F28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2CD-8948-4DC5-9887-DE8A9AD4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A08-A8CA-4CF7-A8E5-9E383FA1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EB6-90ED-416B-ADE8-93D0B47B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FE97-E4E4-4D24-83DF-39EA7D07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0DF-E37B-4C2D-B8C9-58901965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F28-B466-462D-8305-5C6FD349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9B6-BEB4-40FE-9C13-6AFDFA0C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CB3-8026-4FF1-84F5-9E73BFD7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9A0-252D-44E4-A556-2AFA67CC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FE7-7003-4B9F-8D0F-46337EE0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E55-BE3C-404E-8949-381ECEA7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83B67-5681-4D62-9024-175D20641D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