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262025"/>
        <c:axId val="72559263"/>
      </c:barChart>
      <c:catAx>
        <c:axId val="962620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59263"/>
        <c:crosses val="autoZero"/>
        <c:auto val="1"/>
        <c:lblAlgn val="ctr"/>
        <c:lblOffset val="100"/>
        <c:noMultiLvlLbl val="0"/>
      </c:catAx>
      <c:valAx>
        <c:axId val="72559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620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3557-502F-4AD8-934D-4CF181C9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1887-B1ED-420C-8F91-4A9921C8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602-CFC6-494F-A470-F3312E0D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F42-688B-4A68-A44C-5ABEF455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191B-750A-4C06-84F6-D515F282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6828-A021-45DC-93B3-33D4CF06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C490-9164-41EB-93DF-191E209C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E63-F9B9-4CF9-ACA8-51B562F7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2D31-57DC-4A7D-86E8-A95450EC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7EB-E530-454A-960A-88E2923E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A48-BD56-445B-84EC-3013F4C7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72F-B82F-4C83-A772-73AA2477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34A91-820A-4775-ACAF-65B9BE2306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