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36816"/>
        <c:axId val="59656784"/>
      </c:barChart>
      <c:catAx>
        <c:axId val="41536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56784"/>
        <c:crosses val="autoZero"/>
        <c:auto val="1"/>
        <c:lblAlgn val="ctr"/>
        <c:lblOffset val="100"/>
        <c:noMultiLvlLbl val="0"/>
      </c:catAx>
      <c:valAx>
        <c:axId val="59656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36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10E-318D-4CD3-8170-B4399D4F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85A-2C79-4017-9FAF-FDAA18B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5C5-6C69-4866-8437-FAD0D39F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A18-C6ED-4C8C-A3EC-5F2F235B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D88-1371-4B2D-9A06-F3D4CC10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FBF4-A853-4A07-84F9-A8F507F0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4BD8-395C-4E3E-BB3D-637219C3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2C8-3D92-4AE7-BB7F-0EFA87D8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716-2B22-4342-B20C-4CEA57FC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ECD-D74B-4E19-8972-D904CCC0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37A-2C1E-40C8-83E2-BB43469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B00-A605-43D6-AF69-39C2FACB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5AAFE-B0FE-4FD0-A222-A5D2633ED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