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15358"/>
        <c:axId val="8084814"/>
      </c:barChart>
      <c:catAx>
        <c:axId val="29115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4814"/>
        <c:crosses val="autoZero"/>
        <c:auto val="1"/>
        <c:lblAlgn val="ctr"/>
        <c:lblOffset val="100"/>
        <c:noMultiLvlLbl val="0"/>
      </c:catAx>
      <c:valAx>
        <c:axId val="8084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15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827-272C-4CCB-A56F-F20EC358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5BA-1050-4153-B132-8A007A30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E1A-4469-4409-9192-F56E7047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E32-74F8-41D9-AACF-8D8D0B11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686-EB1A-4C2E-9969-345EBBDE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F16-C06A-41B1-A763-E91CEFE6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949-AF7E-4135-A3C9-C0ACE7BA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FF6-BEA9-4DA0-B6D5-83721DE6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665-E5CF-4F18-9226-54ED729C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F58-614A-445D-8D87-C62F6EC3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669-F867-4CB4-9786-F090F839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0C4-6EB8-4D7A-9F84-6AB03226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61023-6991-488C-9DA3-44BECA4960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