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42712"/>
        <c:axId val="52012867"/>
      </c:barChart>
      <c:catAx>
        <c:axId val="54427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012867"/>
        <c:crosses val="autoZero"/>
        <c:auto val="1"/>
        <c:lblAlgn val="ctr"/>
        <c:lblOffset val="100"/>
        <c:noMultiLvlLbl val="0"/>
      </c:catAx>
      <c:valAx>
        <c:axId val="520128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427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50ED-5829-49CA-8B56-ABAD7D467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E30F-55BB-4103-9DB6-20E4E561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8E4C-9C4F-4E04-8155-FC325163E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D144-4A4A-44A7-BFED-F21F6E5DE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978C-C6C2-4EE2-8D3C-38A3506E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99B8-1777-470E-AA50-F5F976E2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C4A1-92FE-4CE8-BA00-E9C08872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BD2B-516E-4F3B-89E8-245EAF49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548E-A92C-40D7-8651-E9B044D5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E0D1-5D8C-4F3C-8A3E-4D2AA061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E093-72B3-44E4-8BDB-89895774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A3AE-A56E-435A-94FA-CDE95BB7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A9F352-8D1C-4983-9140-92B04C3D25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