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354548"/>
        <c:axId val="53395044"/>
      </c:barChart>
      <c:catAx>
        <c:axId val="963545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395044"/>
        <c:crosses val="autoZero"/>
        <c:auto val="1"/>
        <c:lblAlgn val="ctr"/>
        <c:lblOffset val="100"/>
        <c:noMultiLvlLbl val="0"/>
      </c:catAx>
      <c:valAx>
        <c:axId val="533950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545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08DF-2569-42A2-AF7C-8AF098FF9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78C7-857A-434C-9364-D14CBB55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5554-A8F4-49D8-B2E0-55327FE72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12F0-2016-4635-BCBD-310DF4295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1DFF-03D9-47E7-BC54-5BFD35D3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9A95-3442-4C88-910E-DE478F4E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AB7F-D56B-4357-BBC9-AC68E373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B1B7-404C-4F70-9739-DB356C36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115F-E2FF-4C4B-AFE8-AB8FAFD1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D83C-C80F-445E-8D0D-A8A9DA45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1C34-8920-4EEC-B496-DD2F2F8C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0E27-F753-4887-A105-A963A682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F3207-BC7E-4914-BF93-795A820FBA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