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54628"/>
        <c:axId val="73365806"/>
      </c:barChart>
      <c:catAx>
        <c:axId val="94546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65806"/>
        <c:crosses val="autoZero"/>
        <c:auto val="1"/>
        <c:lblAlgn val="ctr"/>
        <c:lblOffset val="100"/>
        <c:noMultiLvlLbl val="0"/>
      </c:catAx>
      <c:valAx>
        <c:axId val="733658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46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98D7-7340-4A91-9049-D91315126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EBA6-4D20-42E6-A068-87376A37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DF6D-32D2-41D3-ADC4-498F2B3D5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6D93-D5CF-45C3-ACCA-77520D0B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DA9A-882C-48AE-B2C1-79BF9204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ADCD-51D3-413A-B1D6-D4BD50D9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1C6F-6BC3-44D2-BD86-DB5B489E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48D0-0F10-422E-BC6F-CB201145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22E9-D28C-4D0C-9236-2843511E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9F67-6771-45C0-956E-B63ACCF0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4ECD-BA68-4319-9FB8-5D1D0EB7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9E8D-C952-4A50-82D8-BA933D08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F39C3-50CD-4FD3-9A2A-B805D45A35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