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31281"/>
        <c:axId val="29452774"/>
      </c:barChart>
      <c:catAx>
        <c:axId val="44831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52774"/>
        <c:crosses val="autoZero"/>
        <c:auto val="1"/>
        <c:lblAlgn val="ctr"/>
        <c:lblOffset val="100"/>
        <c:noMultiLvlLbl val="0"/>
      </c:catAx>
      <c:valAx>
        <c:axId val="29452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1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C5A-ED78-4216-A3F4-6949A1AE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C49-A765-4050-AE48-109043F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E6A-751E-49BB-A805-4E5CFAF3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256-1087-4EDD-BB04-5ABF6E2B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EB1-7E33-4EF0-9AC2-C9C6AAB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64F-A5E9-4439-859B-E21486B4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51B-A2D5-473D-B527-0F8C0BC9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300-E3FD-4989-BE8F-6AA9BD30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61E-8896-4FA5-9189-48DA8E9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402-32A9-44E4-A8C8-825427E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608-DB43-40E0-9447-1AE9E46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8E8-7B2A-483B-A9E6-5EA52E6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7491C-4401-4487-A7F9-98CF169EC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