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433277"/>
        <c:axId val="19407673"/>
      </c:barChart>
      <c:catAx>
        <c:axId val="924332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07673"/>
        <c:crosses val="autoZero"/>
        <c:auto val="1"/>
        <c:lblAlgn val="ctr"/>
        <c:lblOffset val="100"/>
        <c:noMultiLvlLbl val="0"/>
      </c:catAx>
      <c:valAx>
        <c:axId val="194076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4332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DA7F-0B03-427D-838F-E4E55AD4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A9B3-A64F-494A-9ABB-DF1EEB09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C038-E22A-413B-8B92-7982EAFEF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EF1C-4004-4A55-BAA8-93EE039CA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A4E6-811F-469E-A072-2A1D409C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FFE8-4CCE-46F5-8BD8-C9190FBA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4E7C-A6F5-43C4-BDE3-DA2FC090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6514-2720-4DB0-BB9D-52C08400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E047-4F75-4CEE-B4EE-A668C946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6505-F852-4C80-B5CC-488660F9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0484-15C8-453E-A8DF-7DD74788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2ECC-682E-4328-A52F-DBCA649B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D0F97B-2909-4B75-85B4-448DBB4C0E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