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59512"/>
        <c:axId val="3921213"/>
      </c:barChart>
      <c:catAx>
        <c:axId val="662595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1213"/>
        <c:crosses val="autoZero"/>
        <c:auto val="1"/>
        <c:lblAlgn val="ctr"/>
        <c:lblOffset val="100"/>
        <c:noMultiLvlLbl val="0"/>
      </c:catAx>
      <c:valAx>
        <c:axId val="3921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595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208-5969-48A3-95D0-4885A7CE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4F8-0EA5-4ED1-8B11-A4CF99D0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99B-FBB7-48F4-A007-C231EC1A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BB4-050F-4888-BE58-83CE5E2B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49F-687D-48D2-81ED-4C807B02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936-E137-41F8-B6CB-75AAE625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D79-932B-4D5D-A86B-6BE4605D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A2C-B17A-4058-AD84-F0FB247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316-32BD-489E-951F-A34C5356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1FE-B8EB-4CF6-B5F6-1C403A81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A3B-CEAC-46EB-A6D8-3E360AA4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92E-70D0-43AF-A8A0-361CEEE9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1F267-5D44-4469-8CCD-B687BCF1A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