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891479"/>
        <c:axId val="13322275"/>
      </c:barChart>
      <c:catAx>
        <c:axId val="578914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322275"/>
        <c:crosses val="autoZero"/>
        <c:auto val="1"/>
        <c:lblAlgn val="ctr"/>
        <c:lblOffset val="100"/>
        <c:noMultiLvlLbl val="0"/>
      </c:catAx>
      <c:valAx>
        <c:axId val="133222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8914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3DC4-BD3E-4FD8-8E38-0C301249D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2C97-BA30-427C-9EB0-A45E81295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B3DD-4CBF-4E8C-93ED-5059B80F3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6596-3386-40F4-9185-8BEF238DF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8603-41D8-4742-B0E6-F02BC700D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1391-DAB3-4358-8270-C4D45BC83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D54A-2377-46D3-AA62-2BD1C03EE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7543-F448-4EE7-98AC-071716133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726F-1720-4516-8EB2-9C27F8589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F311-9D37-4105-B0F5-C56372DD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70AA-0B85-4936-84E1-89557FE6A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CB3A-F0EE-47BD-B992-4B454C325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96846C-ABEF-4C25-81EC-B2F2F55B0D5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