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14590"/>
        <c:axId val="13709042"/>
      </c:barChart>
      <c:catAx>
        <c:axId val="84014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09042"/>
        <c:crosses val="autoZero"/>
        <c:auto val="1"/>
        <c:lblAlgn val="ctr"/>
        <c:lblOffset val="100"/>
        <c:noMultiLvlLbl val="0"/>
      </c:catAx>
      <c:valAx>
        <c:axId val="137090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14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4FC-A8DD-40E0-ACE5-68509994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CD4-3726-4A38-A190-D81A7085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7A8-4F78-4005-8F88-C89422F9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C3E-623B-4E53-9AC4-0A531040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2C3-0401-4EC8-A86E-D1C9B741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DC1-0EC3-4CDE-BD13-A769C87D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DE8-311E-4AB5-A551-FC4BD8FD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CE5-BFF5-4AA5-8ACF-4786233B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8AC-EF50-4F1C-A641-EFA02CA6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1061-3037-42EC-8641-A9FD1DDF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27A-A429-4B80-9998-097B646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68B-E879-4BBD-AF92-B96B591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86DF5-C08D-472E-8116-4111C3C5E7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