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78219"/>
        <c:axId val="55117850"/>
      </c:barChart>
      <c:catAx>
        <c:axId val="27278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17850"/>
        <c:crosses val="autoZero"/>
        <c:auto val="1"/>
        <c:lblAlgn val="ctr"/>
        <c:lblOffset val="100"/>
        <c:noMultiLvlLbl val="0"/>
      </c:catAx>
      <c:valAx>
        <c:axId val="55117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78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A56-20A3-42B7-BDC3-78379D37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265-4301-4F61-ACDB-08B9B592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AA3-3D02-4EEC-9E96-68F1D95C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A1D-6138-4AE3-8029-F3D9B5FD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B84-33FA-44A4-8FD5-676AF42E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A7F-33FE-4399-90C7-420AC1E6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E7F-1DF8-4ECF-937F-75A871D2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D16-6726-4B8B-8FEB-9F768FDD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212-0E3F-4698-AAC5-241254D3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04E-A9A2-4339-A4BC-DAE6C8BD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7F8-EEC5-4CB9-AF0F-49B5B591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869-8109-425D-91F8-7B713191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94C74-0279-4A03-A4F3-84E29FED05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