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37621"/>
        <c:axId val="63953999"/>
      </c:barChart>
      <c:catAx>
        <c:axId val="45437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53999"/>
        <c:crosses val="autoZero"/>
        <c:auto val="1"/>
        <c:lblAlgn val="ctr"/>
        <c:lblOffset val="100"/>
        <c:noMultiLvlLbl val="0"/>
      </c:catAx>
      <c:valAx>
        <c:axId val="63953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7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DBF-6EF2-44CA-900D-B2F718F7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209-9F85-4B1A-939C-C96E5A5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100-3A4A-49F5-8489-85C21783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019-D96E-4665-B247-78FB40E8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CEA-7BB9-47C7-B8B9-F9379E0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05E-6025-4D0A-9A75-CD6BDCC1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8DB-DDC4-4EF3-AD18-2BD2E6D9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098-0E34-4AE2-865C-A86A50B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7EA-13A0-4F19-9FBF-D191C6E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555-D35C-48A5-B185-7B68D07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B59-E26A-4AAC-AD8C-693EB26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0BE-30C3-4AF0-9EE2-05E27AA2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1FB39-8866-42B8-B391-325061246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