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71937"/>
        <c:axId val="63080264"/>
      </c:barChart>
      <c:catAx>
        <c:axId val="14671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80264"/>
        <c:crosses val="autoZero"/>
        <c:auto val="1"/>
        <c:lblAlgn val="ctr"/>
        <c:lblOffset val="100"/>
        <c:noMultiLvlLbl val="0"/>
      </c:catAx>
      <c:valAx>
        <c:axId val="63080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71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309-C049-4325-A712-BF0614D1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BD1-C5C9-477E-B1A4-D9C418B4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F6B-A549-4C44-80F5-CC838AEC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2BA-DD17-4816-9D13-4DF82D18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DBE-B45E-4937-8D39-4A23C76A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0C6-C992-4772-B436-4378C3D3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128-E873-4D3A-ADA5-8B7EA90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91B-DE01-4AD5-8A69-7F906DC1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C09-4867-4B55-A313-0F03E0D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057-D9A1-44D9-A76B-1C058CB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EE7-E39A-4E2C-8585-A0244A4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4CB-EC0E-4418-A0FD-DF458689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BD92-2022-4888-BB00-B6C2EC43D0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