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92376"/>
        <c:axId val="76971446"/>
      </c:barChart>
      <c:catAx>
        <c:axId val="76692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71446"/>
        <c:crosses val="autoZero"/>
        <c:auto val="1"/>
        <c:lblAlgn val="ctr"/>
        <c:lblOffset val="100"/>
        <c:noMultiLvlLbl val="0"/>
      </c:catAx>
      <c:valAx>
        <c:axId val="76971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92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AA9-8FA5-44D6-A709-26178AB3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977-4271-42AA-A676-220948AB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87D-E046-4F38-94D5-3B00AE81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FE1-4F0B-488A-A5A7-FA6891EA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94B-4780-41A6-9BCD-8DADCB3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4FC-26B0-43A8-AB2E-F8A9EB3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A77-9FC1-406B-8510-9475D119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6AE-6C9B-41ED-8702-114A962B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A3E-76DB-47A4-A14C-378EE1DB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CBA-CA48-46E5-8795-965F26AE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A73-5F6A-4551-9B82-9C3B6FE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F88-59EF-4143-8809-5FD4FAC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80FE8-BA17-442F-BA11-548E10B29C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