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9995"/>
        <c:axId val="58666078"/>
      </c:barChart>
      <c:catAx>
        <c:axId val="2909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66078"/>
        <c:crosses val="autoZero"/>
        <c:auto val="1"/>
        <c:lblAlgn val="ctr"/>
        <c:lblOffset val="100"/>
        <c:noMultiLvlLbl val="0"/>
      </c:catAx>
      <c:valAx>
        <c:axId val="58666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9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60B-F861-4DAB-91C8-AC074DCB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8B6-C475-4EA0-8231-8C84C6C4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E85-987C-4BE0-9A12-D44052DA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3A0-51CB-40C6-A22E-8276CB96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7B7-5E7B-4690-B03F-C3206717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663-7779-49F9-AD32-F096A7F1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17E-E059-4376-B5E9-69D2C2F0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412C-6492-46B1-8B5C-84E84E19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34C-AF87-4575-8BEC-C127E6A4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1C9-7A79-488F-9845-1864E324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D31-C0E1-49BE-90E1-38CA835B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A3A-D1FA-4C8C-A5CE-23D31DCE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A1498-2099-4082-859A-9080C2E4FF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