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2474572"/>
        <c:axId val="86653678"/>
      </c:barChart>
      <c:catAx>
        <c:axId val="8247457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653678"/>
        <c:crosses val="autoZero"/>
        <c:auto val="1"/>
        <c:lblAlgn val="ctr"/>
        <c:lblOffset val="100"/>
        <c:noMultiLvlLbl val="0"/>
      </c:catAx>
      <c:valAx>
        <c:axId val="8665367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47457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CA1F7-BCEC-4539-98B0-DB23211DB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F7213-C651-40E3-A187-3A6E69107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06527-C17F-4ABB-B937-D6E42BEF0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CB62D-F1F2-488C-A777-5BB81B9E1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C5C0D-54DA-4E0E-AF3F-71CA7DDF9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36BD6-3574-4706-98CC-AD7933F43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0D400-15D1-4EC7-8212-385C8FED0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F5213-73A6-48E0-B51C-9F2383C91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1DBD0-36B8-425D-82DB-B3142FDA5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219D1-099A-4ABA-B03A-FDACE9DC3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440F7-E8D2-4948-A519-749017190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BB006-A682-4599-B263-D69033723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BE7FF5-1131-464F-85A9-146E5D1B172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