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56685"/>
        <c:axId val="89093105"/>
      </c:barChart>
      <c:catAx>
        <c:axId val="29656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93105"/>
        <c:crosses val="autoZero"/>
        <c:auto val="1"/>
        <c:lblAlgn val="ctr"/>
        <c:lblOffset val="100"/>
        <c:noMultiLvlLbl val="0"/>
      </c:catAx>
      <c:valAx>
        <c:axId val="89093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56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F11-B122-4DB4-995D-2332B7C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115-022D-498A-A7B0-6AD00D02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0BD-E1E2-4460-BC1C-7567A803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2DD-16A9-4326-8089-E45A98E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912-FC65-409A-B14F-B5FFA17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CEE-0E67-4871-B301-416F6F4C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D4E-CC99-4031-A17D-E650604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C81-F22C-409F-9713-5F110F9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38B-4032-497B-B6DF-6F4BB0DB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752-BEFF-42CD-A8CE-F1999CE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264-4DA4-40D4-A469-511C036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809-81C2-4179-9294-D5612E3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5E570-4AC8-4EC3-85A0-352F62D06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