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08669"/>
        <c:axId val="56847029"/>
      </c:barChart>
      <c:catAx>
        <c:axId val="33908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47029"/>
        <c:crosses val="autoZero"/>
        <c:auto val="1"/>
        <c:lblAlgn val="ctr"/>
        <c:lblOffset val="100"/>
        <c:noMultiLvlLbl val="0"/>
      </c:catAx>
      <c:valAx>
        <c:axId val="56847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08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FE5-6DD4-48C5-9649-5785EEEC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E5B-D89D-4AA2-9DB2-991E9F20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566-7B34-4B9B-BC5A-10B6DB0C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105-B947-4274-8A74-129AA5B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0E9-0487-49F9-84CA-6A5E68D4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CD5-EE46-401F-AC07-CD00C595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C9B-6B1F-46B8-8936-DC0E0FF1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EEE-4F66-4C8B-A23A-090AA910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055-2A23-445F-B575-8BF0488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30E-8ED1-44B1-9D73-E2C5E1A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B7B-0FA8-4FF9-BDB1-6BCC377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182-F40F-4474-9004-5649BE9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67ED2-3B20-454A-A56D-F21D4AE7A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