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68288"/>
        <c:axId val="2231340"/>
      </c:barChart>
      <c:catAx>
        <c:axId val="20368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1340"/>
        <c:crosses val="autoZero"/>
        <c:auto val="1"/>
        <c:lblAlgn val="ctr"/>
        <c:lblOffset val="100"/>
        <c:noMultiLvlLbl val="0"/>
      </c:catAx>
      <c:valAx>
        <c:axId val="2231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68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F9F-4287-448D-8090-68681173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0C7-2698-4D9F-8F0B-E778D968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460-44D8-4672-9FE5-EF4BC994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858-1973-4BE5-9E0F-14F39A1D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FDF-3BE9-4CD9-8FA4-48BFE303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9D4-F676-4A76-93B4-CB3AEF20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462-9188-490C-A549-1E106A01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729-FE85-4A98-A44F-84F2F956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933-D6A5-44D1-9A85-3AE14EED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C2A-E57A-4F17-B22E-2A6769F7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AE8-53F8-4E69-8FCC-4AAD22C7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3CA-488F-4E3B-94B8-62B1237F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44475-FA5F-4657-B896-8CA6EFCE26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