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450097"/>
        <c:axId val="57484805"/>
      </c:barChart>
      <c:catAx>
        <c:axId val="354500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484805"/>
        <c:crosses val="autoZero"/>
        <c:auto val="1"/>
        <c:lblAlgn val="ctr"/>
        <c:lblOffset val="100"/>
        <c:noMultiLvlLbl val="0"/>
      </c:catAx>
      <c:valAx>
        <c:axId val="574848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4500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F0F6-D09E-4A85-A96C-11D5E0D9F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D48A-5AB9-4D9C-BE18-9B250BDB5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A739-161A-44DB-899F-12783DB33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5316-FFEE-47ED-93C4-AE840A03F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AFCF-7F79-4821-975A-2D5D112C9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3332-0C74-4E8C-9994-81B05E6DE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F552-693C-4017-AED8-6039C7C86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0483-6E74-48BA-8A39-666089C9F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3F9D-1AA5-4887-AFE4-9E6B3EDCE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FEAC-51A9-45EE-9618-14EA53B1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19E0-B31E-4182-8FFF-DCC8B216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E5CA-E45C-4DCE-B68E-A7A64C6F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A47D35-ECDF-43EC-9452-6AF82980DAC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