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1889"/>
        <c:axId val="443393"/>
      </c:barChart>
      <c:catAx>
        <c:axId val="902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93"/>
        <c:crosses val="autoZero"/>
        <c:auto val="1"/>
        <c:lblAlgn val="ctr"/>
        <c:lblOffset val="100"/>
        <c:noMultiLvlLbl val="0"/>
      </c:catAx>
      <c:valAx>
        <c:axId val="443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B5D-C4DC-4401-857F-3F9A4B8F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DB8-940B-478E-ABDF-B51D9938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6E3-26CF-4A8C-9CB9-988F19D4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A72-C5EC-45C2-80F9-05C593E6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460-8AF9-411F-8581-105AC67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5C0-AAC8-47D9-AFF9-A2064CC5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775-774C-4BF6-8541-092B4088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E9E-A385-4247-BAE4-A7091F85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610-4248-4383-9416-04DAA48D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0F9-4EB2-4EE8-AB6A-F330385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247-D7D4-4CF8-9FA2-8136AC94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F4A-270C-4A8E-9292-F132BC1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649E9-E9B1-41B4-8BD6-293A2EA1F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