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1345"/>
        <c:axId val="85858710"/>
      </c:barChart>
      <c:catAx>
        <c:axId val="9741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58710"/>
        <c:crosses val="autoZero"/>
        <c:auto val="1"/>
        <c:lblAlgn val="ctr"/>
        <c:lblOffset val="100"/>
        <c:noMultiLvlLbl val="0"/>
      </c:catAx>
      <c:valAx>
        <c:axId val="85858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298-A4DA-4851-9982-02B99E6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808-539D-4BC1-A1F0-5FDEC3C1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88A-0300-40E1-A3ED-38C35BBB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5BA-F9B9-44C9-84B4-14667DD5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CB0-6334-497F-8098-E340EA5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083-6F3C-48B5-9754-4AE4017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DCB-62D0-4A73-BB46-F60B815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BA7-6DC4-4C8F-B26D-E251F00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1B2-EAB1-42BA-809B-0F59D87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D16-EDC6-48F7-971D-9F67E49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8E2-3257-462A-A44B-D9391A7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5A6-912F-4863-8F84-3D8168E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F3164-17CB-4A93-B6F0-4CF6B0004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