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20153"/>
        <c:axId val="81660461"/>
      </c:barChart>
      <c:catAx>
        <c:axId val="59320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0461"/>
        <c:crosses val="autoZero"/>
        <c:auto val="1"/>
        <c:lblAlgn val="ctr"/>
        <c:lblOffset val="100"/>
        <c:noMultiLvlLbl val="0"/>
      </c:catAx>
      <c:valAx>
        <c:axId val="81660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0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20F-29A5-4B55-8FFB-B92D05AA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42E-06FE-4519-A388-C1F63670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BED-9172-4F32-8516-A56B34E9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4CE-1155-412C-A3A0-46C6FCC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447-8CD9-4513-81AE-1548470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EDB-8050-49E7-B174-F412FFD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16F-2250-467F-8183-7582E86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BA7-3848-419C-B8DE-71D74CE3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0FA-561E-4A6B-8692-C83DA3E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787-FD5B-4D1E-BC38-0567410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299-22BC-4E0B-8E66-C745152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331-0119-4A36-A659-A423614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DAB0C-D7F0-4874-9AB0-25A61F720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