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46265"/>
        <c:axId val="23940448"/>
      </c:barChart>
      <c:catAx>
        <c:axId val="1534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0448"/>
        <c:crosses val="autoZero"/>
        <c:auto val="1"/>
        <c:lblAlgn val="ctr"/>
        <c:lblOffset val="100"/>
        <c:noMultiLvlLbl val="0"/>
      </c:catAx>
      <c:valAx>
        <c:axId val="23940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432-87B6-4127-9614-B30E84C6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832-30DD-4780-AC91-BF58715B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2B7-4A02-4E48-A0A4-CCD3E4AB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0A9-5CF5-4383-8272-81979A4C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7F8-9CD1-4E3B-B336-3B807F85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B9F-B562-4D0E-906F-CFC1C13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7EF-EEE3-4D73-A736-4B02600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3D1-D7E4-42C7-B2CC-7292CA2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D35-39B1-4C33-9FD4-E09F6B1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EED-2FAB-43E1-AE47-61C08BC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BC5-C0FD-4BCF-8C58-77C3AC5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D27-3676-4B3E-B1D6-A798C32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FFB4-CFCE-431B-9F40-74BD178FF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