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26487"/>
        <c:axId val="22026191"/>
      </c:barChart>
      <c:catAx>
        <c:axId val="89026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6191"/>
        <c:crosses val="autoZero"/>
        <c:auto val="1"/>
        <c:lblAlgn val="ctr"/>
        <c:lblOffset val="100"/>
        <c:noMultiLvlLbl val="0"/>
      </c:catAx>
      <c:valAx>
        <c:axId val="22026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26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472-E5C7-4F33-8DF0-3FA29342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1B9-EA1C-461D-B8AF-4115B237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0CD-32CC-4829-9F30-C826A8E6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25B-3331-4E80-9E62-E60EB5B1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2F8-A628-4585-B02D-37C8809E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5A0A-8DA9-4869-A012-968622FE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1F2-6898-4FB2-B8F4-281E8662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4EB-1337-43D7-B0BE-315117A1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07F-21C5-4412-B35A-193E1C47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431-D17A-4FDC-8E7F-06048127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7DD-C25E-4A83-8ABC-85C2664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09F-2CD0-4808-820E-6D1A8C60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7492C-C92A-43EF-BBEC-81C7EA983F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