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35850"/>
        <c:axId val="66023300"/>
      </c:barChart>
      <c:catAx>
        <c:axId val="75035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23300"/>
        <c:crosses val="autoZero"/>
        <c:auto val="1"/>
        <c:lblAlgn val="ctr"/>
        <c:lblOffset val="100"/>
        <c:noMultiLvlLbl val="0"/>
      </c:catAx>
      <c:valAx>
        <c:axId val="66023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35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80F-D490-4092-AEFF-16EC7F8A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433-BB33-4F3A-96BC-89AA8E41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CB7-D134-488F-8D7D-11F0200F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62D-3826-429C-9815-0F347B6A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A07-74E2-4917-9BB7-64C52478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091-2373-4A07-8DF9-16C88571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F41-F50E-41F2-92FC-305867E4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446-6443-42B3-AC81-7BD44EF8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E94-13F4-47A1-A4CB-47AE4E4D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003-41FE-45DC-9114-134D1F7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9AB-261E-447E-884E-9E4FA831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C9B-FFDD-4DE0-A1B1-C9EA63BC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00F70-D32D-4912-B718-4FE232B91F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