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20409"/>
        <c:axId val="11730922"/>
      </c:barChart>
      <c:catAx>
        <c:axId val="71820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30922"/>
        <c:crosses val="autoZero"/>
        <c:auto val="1"/>
        <c:lblAlgn val="ctr"/>
        <c:lblOffset val="100"/>
        <c:noMultiLvlLbl val="0"/>
      </c:catAx>
      <c:valAx>
        <c:axId val="11730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20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2A6-3053-46D6-9C65-1426EBC3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E04-1F00-4883-8085-B521E8C5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C7F-D4DF-400D-AE30-DD8EA9B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2CF-3602-41B5-A585-A4EF979F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E29-8AFA-48BF-9B5A-DB7FF4E4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BF6-424F-49CB-8601-83674AE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5B7-74CA-45B6-A271-5360DD7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988-95D5-40C1-B4F8-61C15D01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6D0-47F7-4DBB-9460-00968A39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FBC-18AE-4AB2-BD53-3AFE7E6A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260-1C18-41C4-AF7F-BC9ABCB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B37-FFE5-4A23-B287-2090EDE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A6B11-A845-463A-B458-576F4F4305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