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194098"/>
        <c:axId val="50589032"/>
      </c:barChart>
      <c:catAx>
        <c:axId val="651940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89032"/>
        <c:crosses val="autoZero"/>
        <c:auto val="1"/>
        <c:lblAlgn val="ctr"/>
        <c:lblOffset val="100"/>
        <c:noMultiLvlLbl val="0"/>
      </c:catAx>
      <c:valAx>
        <c:axId val="505890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940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7F87-3986-42E7-B7DE-73F759DC4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8380-61D8-4864-8FDD-64A02A65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373A-DC0A-4EAB-AF0B-EFB402E0B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3F2C-736A-465C-999E-177C8CA19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93AB-919D-41B1-95BB-3422F7DC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5BD7-CFB9-4412-9B92-46648E95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412A-6E04-4252-8D05-5BF30256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EBCC-EDA0-4093-834D-51FBB1E1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7CFA-A63F-40AA-AC94-F3E0EEC0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6975-34F6-41F3-8377-79B0EE24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5151-391D-423E-8393-A25779D4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FA70-8191-4FD0-AA2D-846A8E9C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0D591-C248-4DB8-903D-B8A52FD5F4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