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72685"/>
        <c:axId val="46522374"/>
      </c:barChart>
      <c:catAx>
        <c:axId val="63172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22374"/>
        <c:crosses val="autoZero"/>
        <c:auto val="1"/>
        <c:lblAlgn val="ctr"/>
        <c:lblOffset val="100"/>
        <c:noMultiLvlLbl val="0"/>
      </c:catAx>
      <c:valAx>
        <c:axId val="46522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72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3C6-17AF-446C-B2AC-B2D59116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518-44A5-4DD7-AF60-4D455E9B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EB7-1200-495C-BB31-8F47FA32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421-CBBE-43E1-B9A6-07EF79D4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BC7-D6F4-41F7-A0B6-DBD0DEFA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A1E-C5FB-46D4-A339-5CAA4F8D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A69-134C-476B-9CAA-31BF5268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5B4-7700-4337-A733-170BE1EB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426-4C21-416A-8B12-6D23733B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5EB-4F30-4648-A00A-A884067F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B97-D6F9-4225-AD02-C0966281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B7C-E1C8-4A2F-8336-5BE0F7DF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163B0-76A8-4172-9BBE-79CFE5BC5B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