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47377"/>
        <c:axId val="9200149"/>
      </c:barChart>
      <c:catAx>
        <c:axId val="22047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0149"/>
        <c:crosses val="autoZero"/>
        <c:auto val="1"/>
        <c:lblAlgn val="ctr"/>
        <c:lblOffset val="100"/>
        <c:noMultiLvlLbl val="0"/>
      </c:catAx>
      <c:valAx>
        <c:axId val="9200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47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EB8-B062-4BA5-BA43-B6553EFD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516-8801-4007-9A43-EDFFEC8D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69D-2F1A-4EB8-9029-DDE9B997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D12-B6FA-4994-BC12-95DC2707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3FC-67AB-4273-8A26-74E15D13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B3B-D709-4E16-AD9A-04AD97DC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A7E-739F-4BB5-B604-52507507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3D6-754D-4809-B38C-6A5BE2EA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455-89B7-4761-BDC2-35F30809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B95-F114-42DB-8761-FF3D06D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7DB-A364-4BFF-9BAB-0B89F051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541-E29E-427F-9196-A898B996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05BE9-DC18-4B9B-8EC0-76E63CF184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