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84903"/>
        <c:axId val="97261479"/>
      </c:barChart>
      <c:catAx>
        <c:axId val="28584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61479"/>
        <c:crosses val="autoZero"/>
        <c:auto val="1"/>
        <c:lblAlgn val="ctr"/>
        <c:lblOffset val="100"/>
        <c:noMultiLvlLbl val="0"/>
      </c:catAx>
      <c:valAx>
        <c:axId val="97261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84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65A3-DF88-4D34-9ADD-7E37FC0C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55C-64C8-4A18-8C5C-DBB463E8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82B-0B53-4355-871D-49B82C7B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C3CD-EDFA-49EE-8EA1-DC8913CD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FF35-2C4A-4628-8A9B-C6369C5B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CC4-16CF-42FA-96FE-12916332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E44-9221-416E-A6F9-F7C670A6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EF58-974A-42D3-A533-33BE8002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431-98D6-464A-9649-7A53EF60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A04-9B4C-4C03-B78F-CFBCA3B3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466C-850A-4D5C-9BB4-E38429BA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4E51-9C45-4076-83E9-1E4954A0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1FDFB-CBFD-4C02-8DD1-B4D23D2C56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