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54666"/>
        <c:axId val="52139944"/>
      </c:barChart>
      <c:catAx>
        <c:axId val="58554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39944"/>
        <c:crosses val="autoZero"/>
        <c:auto val="1"/>
        <c:lblAlgn val="ctr"/>
        <c:lblOffset val="100"/>
        <c:noMultiLvlLbl val="0"/>
      </c:catAx>
      <c:valAx>
        <c:axId val="52139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54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EFB-5D86-4150-9160-BCA30076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A75-38CB-4C52-9301-C9C44EDB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751-1DA2-409B-A9B0-21B9FAA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8E5-5515-4061-9D8B-AC66B91D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ED5-7104-406F-99B0-7C2D56C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F37-3DC3-40F8-9DD8-D180455C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D79-A51E-4EBA-BF5A-63667AC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208-ECBF-4392-A497-697758E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3DC-49CE-476D-8649-8F1572E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619-2199-4FCD-AA7A-18647B4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275-2136-4AB0-9851-FBF6819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C23-C453-4C64-9AD4-561B528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466C7-1283-49F2-8B85-6AB8E39CC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