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1844"/>
        <c:axId val="52227511"/>
      </c:barChart>
      <c:catAx>
        <c:axId val="2831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7511"/>
        <c:crosses val="autoZero"/>
        <c:auto val="1"/>
        <c:lblAlgn val="ctr"/>
        <c:lblOffset val="100"/>
        <c:noMultiLvlLbl val="0"/>
      </c:catAx>
      <c:valAx>
        <c:axId val="52227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10E-9673-420A-B20B-591DFD16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B5D-FF0E-434A-BCEC-A7ADFA55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8E3-B80B-49E2-BD86-C47F2EB0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743-9FA6-4AE7-AEED-F62F743D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0A5-A313-481F-9122-B99D754E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5A3-5EB8-4687-A8CB-1D06039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78C-56C5-4890-B9EC-83DBB27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0B2-C600-4DBC-B61F-0BF164D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F04-2848-432F-A61B-586746C0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C53-EEB7-4FBB-9131-7A10D0B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CC6-FFB2-43C5-BC8D-EBF34686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62C-EC8A-4FA6-B34B-C23160F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2E34A-DAA5-4205-AA12-D8BE906C00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