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11604"/>
        <c:axId val="3134367"/>
      </c:barChart>
      <c:catAx>
        <c:axId val="21511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367"/>
        <c:crosses val="autoZero"/>
        <c:auto val="1"/>
        <c:lblAlgn val="ctr"/>
        <c:lblOffset val="100"/>
        <c:noMultiLvlLbl val="0"/>
      </c:catAx>
      <c:valAx>
        <c:axId val="3134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1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9F0-C2DE-4F61-99DD-64F3DD08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C88-E2B3-44D6-AEDB-F2EF6316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0E2-3017-4706-81D9-9446F83A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05E-6013-4870-8EDB-843B202A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31E-ADAA-46FE-8DA9-6CC0ED3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FBA-91E6-48E1-A12B-D354FF0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276-D1DA-45A5-899B-1124E94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CC2-BAA0-4BE6-81BA-E299682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E67-97C0-40AD-AEB4-2E6F633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149-D7C3-4895-BC31-EF9172D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653-F43A-481E-9EAA-1DD9477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B34-DB57-4A38-A28E-58C34AC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7615F-BD8D-40F7-A767-0F6A533CA7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