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64031"/>
        <c:axId val="12491812"/>
      </c:barChart>
      <c:catAx>
        <c:axId val="12364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91812"/>
        <c:crosses val="autoZero"/>
        <c:auto val="1"/>
        <c:lblAlgn val="ctr"/>
        <c:lblOffset val="100"/>
        <c:noMultiLvlLbl val="0"/>
      </c:catAx>
      <c:valAx>
        <c:axId val="12491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64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50F-5F73-4791-BAAF-7DC8136F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90F-5FD8-46EC-A04D-104DA508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D90-491C-422E-9E3D-0629D7F1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E0E-A617-42A4-9A11-7C020800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110-BBF7-4F66-A37F-212940B0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2546-C576-44BB-8CF4-ACCB56A2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BD9-17C2-4433-8841-D7545F0E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798-0037-4D9F-A35A-3EAD6925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3C2-26CA-445A-ADB8-B8C12FD4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104-2AC5-4802-B0E7-3A7F4982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BFE-20DA-4BCC-88F6-77D413AA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2CB-0D90-45D2-A4C7-054AF0B6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C4D4B-D348-48F3-BC6C-0C0EFBC166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