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36766"/>
        <c:axId val="18251908"/>
      </c:barChart>
      <c:catAx>
        <c:axId val="82336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51908"/>
        <c:crosses val="autoZero"/>
        <c:auto val="1"/>
        <c:lblAlgn val="ctr"/>
        <c:lblOffset val="100"/>
        <c:noMultiLvlLbl val="0"/>
      </c:catAx>
      <c:valAx>
        <c:axId val="18251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36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BF4-06DD-4AD7-B00C-E13C49DF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FD9-977E-4EA1-8C1E-BA6A9AC9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41E-8A17-4F3A-AFAE-FD75DFA0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2A3-ED18-494A-9148-01167937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844-8D31-48C1-903B-BFE8C9F1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746-AF8F-4C2E-AC2E-B6C593AE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056-E852-4EC5-948D-F57F862F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224-723D-47A4-932A-6DC588AD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87C-187A-4B2E-AEDA-9FC11008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D7D-F618-42DF-B314-807DE051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0A2-A161-47DA-9C67-AC379A2F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284-CF2F-449E-84FE-5276605B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03AD8-80CB-475A-A48E-8BD8B8D232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