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85626"/>
        <c:axId val="43657294"/>
      </c:barChart>
      <c:catAx>
        <c:axId val="85185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57294"/>
        <c:crosses val="autoZero"/>
        <c:auto val="1"/>
        <c:lblAlgn val="ctr"/>
        <c:lblOffset val="100"/>
        <c:noMultiLvlLbl val="0"/>
      </c:catAx>
      <c:valAx>
        <c:axId val="43657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85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2D8-79CF-4749-8629-5EE0C1ED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AD9-EF84-4B60-ABBF-52DF4E5E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9FF-45D3-474B-921D-070A6414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F6C-3BE9-4A0C-A10A-AA57562F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5B7-58E9-44E8-BF6A-98242F10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F9F-C443-460E-9851-815A8B7F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E8C-477A-4680-9E58-8206BF36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AED-2EBD-4362-998E-EBFFD38F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8EA-0FE4-47DB-B53B-F31B19CA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F47-97C0-46B9-B60D-139EA849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319-8350-47FF-865A-F6A65259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70E1-F45A-4277-9345-14D3DFFE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964B9-99BA-43AC-AFD3-BD58BA3B6E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