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95562"/>
        <c:axId val="39864972"/>
      </c:barChart>
      <c:catAx>
        <c:axId val="64995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4972"/>
        <c:crosses val="autoZero"/>
        <c:auto val="1"/>
        <c:lblAlgn val="ctr"/>
        <c:lblOffset val="100"/>
        <c:noMultiLvlLbl val="0"/>
      </c:catAx>
      <c:valAx>
        <c:axId val="39864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95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72C-4897-45EE-9A3F-216C9653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D10-D982-477E-AA1A-0CC9B7D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950-573C-46EF-A3D7-77982B5D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F11-652C-4949-BAA5-38A9420B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6C5-E131-4F7E-BB08-129896D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B58-DC08-451F-ABA6-9458785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0F8-6A4C-4DC1-80A2-054DDD3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459-3497-499E-9773-65674C60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D44-F39F-4CC6-984F-117FCA1C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E2D-5AE0-4DA9-9554-515A3E5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B5D-C404-42D4-A517-4CDCEA2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406-67C3-40FC-A559-F86C098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1357D-EB98-4ACA-8F26-707E0DC0B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