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895058"/>
        <c:axId val="77918575"/>
      </c:barChart>
      <c:catAx>
        <c:axId val="138950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918575"/>
        <c:crosses val="autoZero"/>
        <c:auto val="1"/>
        <c:lblAlgn val="ctr"/>
        <c:lblOffset val="100"/>
        <c:noMultiLvlLbl val="0"/>
      </c:catAx>
      <c:valAx>
        <c:axId val="779185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8950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0B64-475B-4CBA-9C24-1FEDF8FB6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70C3-42C9-43A9-B7A7-CCB8795D8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3AE1-B99D-4174-9AC3-86C597100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2D94-ADCE-4D2A-A9DF-BA6ADC5AF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43F2-DA3B-479E-90A3-ADFEFD9F3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A2A3-CF20-4A02-8047-87B207198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9C9C-E87C-4E46-9302-35530D51D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BC4D-A057-400E-B2C0-D736247B2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5370-3E97-4B47-90D4-570E114CD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EE06-7373-4FC5-93BF-14BE78CE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B0F9-44E8-46B5-B1D6-EB667EA4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84C7-AF5B-48A9-8A81-D31481F0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A335BF-F677-4AC8-82DC-B3777FA1E03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