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32225"/>
        <c:axId val="53424972"/>
      </c:barChart>
      <c:catAx>
        <c:axId val="759322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24972"/>
        <c:crosses val="autoZero"/>
        <c:auto val="1"/>
        <c:lblAlgn val="ctr"/>
        <c:lblOffset val="100"/>
        <c:noMultiLvlLbl val="0"/>
      </c:catAx>
      <c:valAx>
        <c:axId val="53424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322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5E7-19C8-42F3-9C3B-335F3FD0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94D7-15A7-4E71-BE86-1ECD5DE7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BC61-363B-42EB-BEBA-F72CFE0F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D73-96A9-4D0A-927D-CCDEA63F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8F9-F82A-4E6D-9EA9-ADDF1225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56A-E3B1-4AAA-A33E-8E9BC234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D86-0F12-4FCE-856D-AB81CCB3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7E7-ED3E-41BB-ADA6-5EDE2158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52E-F9AC-44E0-87E6-65A80799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372-3218-4768-BBAA-7F5E57F5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B8F-6F4A-44FA-BDEF-9D70D83A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6D1-455B-4C2B-807A-D163452F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DCF4F-9FED-448E-A503-376D8A8D06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