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90654"/>
        <c:axId val="2710467"/>
      </c:barChart>
      <c:catAx>
        <c:axId val="75790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0467"/>
        <c:crosses val="autoZero"/>
        <c:auto val="1"/>
        <c:lblAlgn val="ctr"/>
        <c:lblOffset val="100"/>
        <c:noMultiLvlLbl val="0"/>
      </c:catAx>
      <c:valAx>
        <c:axId val="2710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90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FD6-6B4B-4135-8087-B45DF8E5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710-0373-48FB-9F89-BEC0202E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90E-0900-46BC-99A4-7842F867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E52-F951-4F5D-80C3-9B6498BF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0E1-8513-4857-BE5D-813F78CA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D37-C5C5-482A-862A-3110A088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3F2E-64CF-4A90-B53B-3D6551DC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207-3A62-470D-9D76-29D2169A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6F9-07F4-484E-BD28-7C5F50DD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481-F602-4CBE-AACE-B407E222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8AA-AE0B-4A21-8D84-C88FCA44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C6F6-27E0-463B-8F3C-44A5F964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AB40E-6C76-479D-858C-E339067D8F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