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0990"/>
        <c:axId val="64488011"/>
      </c:barChart>
      <c:catAx>
        <c:axId val="4570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88011"/>
        <c:crosses val="autoZero"/>
        <c:auto val="1"/>
        <c:lblAlgn val="ctr"/>
        <c:lblOffset val="100"/>
        <c:noMultiLvlLbl val="0"/>
      </c:catAx>
      <c:valAx>
        <c:axId val="64488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0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8CD-76B0-46AC-9A9C-93273A57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907-5360-4606-9D43-FBB91CD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5EE-D459-4E95-8B77-880962C5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A6A-B70C-4BC4-A928-075B02C5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42B-59DD-4024-9D8E-9B85F2C3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6E7-6DA5-42EA-8C96-8AFA751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AB8-4093-42A1-83B0-8C964A61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891-3D2E-4D20-AC93-73842BB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A42-A3DD-4605-AA14-95DFD905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1F2-4A52-4D93-A299-EA98B84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5F8-5FD2-44DD-B1C4-EBBE8F6D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7FC-B299-4B8A-9EE8-EE83CB1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8D15E-154E-40C6-9452-892F3DF37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